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5253-E762-4300-91CE-126885F7E3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F436-6DA4-40A8-9EAF-E20D35B977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0F09-A03C-4027-B520-6B7F638F96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4666-8268-4E81-9287-59763D561A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3821-5BCB-4C51-919B-B6C70EFCAE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1561-AD98-435E-B006-EBC0155254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6223-F799-46D9-9E85-F35DFC7D88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5334-E6D4-4781-B815-3658CFFDE9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B4A5-C94E-4991-A6A2-A99EADD4B4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7CC5-43A4-4844-B416-1A63DAF8E4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4FC9-7DA7-4CD0-8C6F-A59F32D6B1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B8AE-D9E6-42F6-825A-3373158D8B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1115-25D7-48CF-A32E-D2CA3CA9A7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39C9-72EA-4E85-80ED-CCA1AB1A65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3B57-D1FA-461A-A665-3D2651788C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B080-99C1-4DAF-898F-CA843AD582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DC5-6210-4252-9669-D4D26FF2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A8A-51D7-4075-BC1A-DB1222D4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0BE2-808A-4C87-A60D-D1D7496A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C14-5A77-40A2-8F88-7823300A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0C34-7C49-4830-8FFF-A69B8FFA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F777-ADB4-404F-A4C9-58174FB2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6666-D35A-4E86-B7EE-94EC39EB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6495-ADAF-4815-BAB1-73C95D79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D6B3-F52B-47B4-9EE2-0EBF4F13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8628-3FDA-4ECA-BE21-4DB57617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20F7-9401-4CE2-9257-8B82FB19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2E8B-65EB-436B-B8C5-AF046A4F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753D-EFAA-4D4B-938C-DC05E29C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92D3-C6E1-4A04-9DC7-C6AE2082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5BC3-9347-4E6E-9405-AA1A0794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FD4F-1515-4CA3-8F1F-B0FCE330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8350-5152-4A2E-A459-491CFA20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607-AEED-4060-8DAC-E92DA249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BA1-4301-4242-86F4-E40E8CCD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58F-16B1-4B96-B5A7-2FBD703D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6DF-F929-4887-AE63-18F42626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B09-3643-4D89-B017-58D94C3D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C74-7C3D-420B-9AB9-320B0686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F70-3F60-47A7-AE16-214A3934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6226-63F5-48E0-9131-12BF1F1170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0A35-374B-46DF-929C-40DB3AD99F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ibyAJOSW8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YwxEW82Fok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dUSeEWvss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ediabistro.com/unbeige/original/retton%20m&amp;m.j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wY67LYzH7Q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B_cOIP9Qog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ICK WRI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AKE A MINUTE AND WRITE DOWN SOME OF YOUR FAVORITE COMMERCIALS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og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catchword or phrase used in politics or advertis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ds to stay in your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ke 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d Her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ttempt to distract the audience with details not relevant to the arg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d Herring 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ing an election, a politician suggests that his opponent accepted money from a disreputable source. While the media investigates, his own shady deal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World War II, the Germans were convinced that the Allies would invade France, which was an elaborate ruse. By the time the Germans realized no attack was coming, the D-Day invasion at Normandy had succee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rs, and characters in their writings, may employ red herrings for purposes of distraction. In the Sherlock Holmes adventure "The Adventure of the Priory School," a fruitless lead in the disappearance of a young aristocrat distracts the authorities and leaves Holmes to start with a cold tra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rgain/Something for Not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a speaker suggest that the public can get something for nothing or almost noth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ess Bogo S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in Fol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using a person who represents the "typical" target of the ad to communicate the message that we are alike, and I use/buy/believe this so you should to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ndwag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 makes the appeal that “everyone is doing it, and so should you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47 cigarette 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555444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 Statement that can be tested or prov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4 out of 5 dentists recommend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rbs twice as much as liquid as the leading brand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391520" cy="47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vertisemen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gnizing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otional App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attempting to appeal to the consumer's psychological, social, or emotional need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ealing to emotional desires rather than log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Dove Evolution Commer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on Sen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trying to persuade using everyday sense of good or bad/right or wro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Above the Infl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imon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using words of an expert or famous person to persua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Jenny Cra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using names or pictures of famous people but not direct quo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M&amp;Ms 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ittering Genera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use of virtue words, links a person, or idea, to a positive symb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Mar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et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idea is repeated over and over in the hopes of sinking 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Target Commer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cDona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nob App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Qualities that seem to substantiate social or intellectual pretens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want this because it’s hard to get, or not many people can afford 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ffany’s 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2:24:40Z</dcterms:created>
  <dc:creator>mfranchi</dc:creator>
  <dc:description/>
  <dc:language>en-US</dc:language>
  <cp:lastModifiedBy>UMASD</cp:lastModifiedBy>
  <cp:lastPrinted>2008-12-09T20:53:29Z</cp:lastPrinted>
  <dcterms:modified xsi:type="dcterms:W3CDTF">2012-11-28T16:13:40Z</dcterms:modified>
  <cp:revision>32</cp:revision>
  <dc:subject/>
  <dc:title>Advertisement </dc:title>
</cp:coreProperties>
</file>